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FC76-1751-42AA-9331-77CECDE0429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should take 2 to 3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1033-EF9C-4477-B020-398EC4C71FA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read the Easier English versions of the interview, then read the originals and note the differences in vocabulary and sentence struc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45C7-3DA7-4760-B5F6-F024B69D67F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imings: lead-in/vocabulary: 15 - 30 mins; speaking: 15 - 30 mins; reading: 15 - 30 mins; grammar focus and practice: 15 - 30 mins; writing: 30 – 60 m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84A3-EF7E-492B-A777-43984F24D63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f learners don’t know words, feed in: a) demonstration, strike, boycott, march et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) support, join in, disperse crowds, water canon, rubber bullets, sack, arrest, imprison et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1ADB-CD3C-4136-B32F-3E2C3B68F1D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point out countries where they heard about protests and discuss why people were protes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8E71-6C60-4470-933A-2F3FD18B522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fferent learners can read selected articles in pairs and discuss, or all learners can skim-read all 6 articles, then discuss: who? how? why? for e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D7B4-D89C-44DD-A2AB-C25C2118AF6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uide learners to discuss the form/structure (and the meaning/function and phonolog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E0D1-B458-47D2-8703-D154E576868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eck learners understand the meaning/function, form/structure and phonology (utterance stress – usually on past participles; contractions; pronunciation of “ed” ending of regular past participles etc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E15E-8D2F-4DD6-ADD3-B0F35F3AE8E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write their 3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conditional sentences on the board or on flip-chart paper, and then correct any errors in each other’s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732B-2568-4FB8-AEF0-2657923C4F9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rticles can be blu-tacked to the wall afterwards for all learners to read and decide: which would be most interesting for people to rea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roups can then correct any errors in the art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12E5-33BA-4D04-8226-48740A1581D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A93E-0733-4571-97DF-324BAE6C3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6612-1D40-420C-AFB6-D4C3D0F5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759D-78BC-48E2-9962-EB3ABB65A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B535-9443-4EF7-BC0D-91299F4CE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CEB8-04A2-475C-970C-1D251AB8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1860-2373-4D9F-97A0-4E98F3CA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5231-4DDA-4809-8DC8-7B2EB71A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04BE-5A46-432C-A3A9-39248074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9730-D791-4441-9A74-E4A73D54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B971-068A-4509-8955-714289BA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F475-0E15-4394-9F8C-A1FC2BAD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BE72-85B6-493C-93BE-B6F45F6F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9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4726-AE56-4AE6-8C3B-111DB19E244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Photo_story_:_Turkey_has_lost_its_fear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Photo_story_:_Turkey_has_lost_its_fear" TargetMode="External"/><Relationship Id="rId2" Type="http://schemas.openxmlformats.org/officeDocument/2006/relationships/hyperlink" Target="http://eewiki.newint.org/index.php/Social_media_in_Turkey" TargetMode="External"/><Relationship Id="rId3" Type="http://schemas.openxmlformats.org/officeDocument/2006/relationships/hyperlink" Target="http://eewiki.newint.org/index.php/Rio_communities_come_together_in_protest" TargetMode="External"/><Relationship Id="rId4" Type="http://schemas.openxmlformats.org/officeDocument/2006/relationships/hyperlink" Target="http://eewiki.newint.org/index.php/Egypt:_what_happened_to_democracy,_freedom,_stability%3F" TargetMode="External"/><Relationship Id="rId5" Type="http://schemas.openxmlformats.org/officeDocument/2006/relationships/hyperlink" Target="http://eewiki.newint.org/index.php/Indonesians_won%27t_stop_fighting" TargetMode="External"/><Relationship Id="rId6" Type="http://schemas.openxmlformats.org/officeDocument/2006/relationships/hyperlink" Target="http://eewiki.newint.org/index.php/G8_hunger_summit:_protest_and_praise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Protest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ew Internationalist Easier Englis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Intermediate Ready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484360" y="476280"/>
            <a:ext cx="60120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Homework: read the Easier English texts again – then click on the original at the end of each article and read that: compare vocabulary and grammar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3640" y="3357720"/>
            <a:ext cx="8569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urkey: </a:t>
            </a:r>
            <a:r>
              <a:rPr b="0" lang="en-GB" sz="1500" spc="-1" strike="noStrike" u="sng">
                <a:solidFill>
                  <a:srgbClr val="3399ff"/>
                </a:solidFill>
                <a:uFillTx/>
                <a:latin typeface="Calibri"/>
                <a:hlinkClick r:id="rId1"/>
              </a:rPr>
              <a:t>http://eewiki.newint.org/index.php/Photo_story_:_Turkey_has_lost_its_fea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Social_media_in_Turke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razil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Rio_communities_come_together_in_prote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Egy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Egypt:_what_happened_to_democracy,_freedom,_stability%3F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donesia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Indonesians_won%27t_stop_fight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UK: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G8_hunger_summit:_protest_and_prai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esson pla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907560"/>
            <a:ext cx="84358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Vocabulary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Speak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Read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Gramma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Homework / extensi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, we need 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ords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– in groups, list as many words/phrases as possible for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50560" y="3573000"/>
            <a:ext cx="424476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How people can pro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g. hunger str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7960" y="3573000"/>
            <a:ext cx="424476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How other people can respond to prot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g. force-fee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otests in the last year: where/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781200" y="1503360"/>
            <a:ext cx="748980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ad/think: who? how? 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125000"/>
            <a:ext cx="8362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urkey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1"/>
              </a:rPr>
              <a:t>http://eewiki.newint.org/index.php/Photo_story_:_Turkey_has_lost_its_f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2"/>
              </a:rPr>
              <a:t>http://eewiki.newint.org/index.php/Social_media_in_Turk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Brazil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3"/>
              </a:rPr>
              <a:t>http://eewiki.newint.org/index.php/Rio_communities_come_together_in_prot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Egypt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4"/>
              </a:rPr>
              <a:t>http://eewiki.newint.org/index.php/Egypt:_what_happened_to_democracy,_freedom,_stability%3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ndonesia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5"/>
              </a:rPr>
              <a:t>http://eewiki.newint.org/index.php/Indonesians_won%27t_stop_figh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UK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6"/>
              </a:rPr>
              <a:t>http://eewiki.newint.org/index.php/G8_hunger_summit:_protest_and_pra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think about other op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50920" y="1341360"/>
            <a:ext cx="8642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f they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hadn’t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protest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e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, no-one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ould have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know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f they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hadn’t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gone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to the streets, nothing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ould have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ange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f they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hadn’t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one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anything, the government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ould have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tinue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What’s the gramma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conditional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26828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+ past perfect (had/n’t + past participl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If they hadn’t protes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+ past conditional (would/n’t have + past particip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no-one would have know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Is this past, present or future? P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Did they protest? 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Did other people know because of the protests? 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discuss all the protests and make more 3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conditional sentences about what happened or what didn’t happe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3068640"/>
            <a:ext cx="82072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urke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razi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ree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donesi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UK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ther protests you know abo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small groups, write an article for a college / school newspap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5400" spc="-1" strike="noStrike">
                <a:solidFill>
                  <a:srgbClr val="000000"/>
                </a:solidFill>
                <a:latin typeface="Calibri"/>
              </a:rPr>
              <a:t>Protests around the world”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e about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different types of prot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give examples from the articles you re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include at least 2 3</a:t>
            </a:r>
            <a:r>
              <a:rPr b="1" lang="en-GB" sz="36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 condition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9:06:36Z</dcterms:created>
  <dc:creator>Linda Ruas</dc:creator>
  <dc:description/>
  <dc:language>en-US</dc:language>
  <cp:lastModifiedBy>Linda Ruas</cp:lastModifiedBy>
  <dcterms:modified xsi:type="dcterms:W3CDTF">2013-07-24T20:55:53Z</dcterms:modified>
  <cp:revision>36</cp:revision>
  <dc:subject/>
  <dc:title>People who change the world</dc:title>
</cp:coreProperties>
</file>